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DBF-B2EF-40C5-973E-9CD3ED7C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0B3-38FE-4B8F-81CB-21351D49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480-5820-4D98-9EF9-63A1BBF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366-4D98-44C3-8873-CBD5A5D7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C10A-CB23-467A-A3D8-F80A5803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5D9F-5533-4207-A2ED-5907350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64CD-D381-4D76-B5DE-04960E94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BE4-E52E-4C61-AE5B-DF515C9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A63-1945-4E94-998C-B7A8677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8C55-D3DE-478C-A792-60504AAA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5CC-06F0-4752-8968-6DD353B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03C-D410-4A46-A789-680C0A9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37CC-159C-43E1-A663-B9D4F5A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8A2-3B55-4B20-989F-8B51044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9977-D69C-4B36-9FD6-82E36C5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418E-CAAC-44DB-8D99-E74CA4D0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0071-BC6A-4AED-97D3-D261A3CC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B6F24-43FF-4FC0-A24B-980719B2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5C80-070C-4B17-8163-C293453A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C665-7020-4052-8B23-60EE6CC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8D3D-0E4C-41BD-91DB-3B357F7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AAE6-324E-4578-9714-02A8EE47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A7-9C2C-4D60-8B22-F886C4B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EEBA-8D80-487B-B2D4-F358218A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FE61-CBF6-4E7B-AED2-D059834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A4BE-643E-46F7-B191-736AE746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0F57-1E4C-4E15-BF2A-C8C6EFD9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B136-166B-48EC-9124-94CE6429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75013-02B5-41D4-B9F9-A834D98B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B732-486E-4D47-85EB-6F4814C6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44CF-E6E3-4124-94DC-9B8800F7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C418-942D-495A-B0C2-015D6300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E1B1-4272-4EFC-8C5A-23234CC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31D-B78A-4E8F-A928-DA0E1DF5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AF21-973A-4FC2-AB6A-B470B2E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5D26-3CD9-47C7-984D-446855A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C589-1F3C-4793-B6E6-93E18361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708D-FDA6-4B96-9F98-C7DC3869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B058-BCF8-4791-B7A9-7719E64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C9F97-6456-45D6-874D-9F14D06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2B74-0749-4D9A-9470-A37D557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0E77-DC22-432A-801F-D71796F5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533C-67D3-4508-A1BB-84C846F5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1B6C-250E-48D7-8D2E-393B1FEA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252-B79E-4F79-9481-D22E6B7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32D1-1CD2-428A-97DF-F2BB820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BE59-2BE9-4924-AFEC-38E9654A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249BD-21FA-4623-9CB3-09BA577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B5AA-C613-4D66-A620-58835026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A62C-E848-43A8-8F88-4E1FCE6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5541-04E2-43E9-BA2E-D6446C3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6040-6D23-44F3-B180-DBBAEF2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8CFF-2B68-4FC6-9AC4-01E921A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62354-36C6-42E1-A679-EE23C01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A1CB-6812-41E6-92BF-BB1C3149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0C3-FE55-4F9D-8164-7145C42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0B91-1EB0-47BE-A4D7-DF814965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C07-ADD7-4085-A257-D85CB74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007-C33B-4FCA-B860-D04FD7D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881-2AB4-424B-8FFF-7909AAB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FE8-06B2-4767-A5F6-AFE3847CEC9E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矩形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矩形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直接连接符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4920-3DC6-4CD1-AC5C-548928B2AC4E}" type="slidenum">
              <a:rPr b="0" lang="zh-CN" sz="1100" spc="-1" strike="noStrike">
                <a:solidFill>
                  <a:srgbClr val="ffffff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E7C-7BE3-48C8-9FD4-E1F475AAB94C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349D-4B25-4D66-8116-3399A7413402}" type="slidenum">
              <a:rPr b="0" lang="zh-CN" sz="1100" spc="-1" strike="noStrike">
                <a:solidFill>
                  <a:srgbClr val="f4e7ed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矩形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矩形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328-52D1-4BA0-B47E-048E8623EFF3}" type="slidenum">
              <a:rPr b="0" lang="zh-CN" sz="1100" spc="-1" strike="noStrike">
                <a:solidFill>
                  <a:srgbClr val="b13f9a"/>
                </a:solidFill>
                <a:latin typeface="Trebuchet MS"/>
                <a:ea typeface="华文新魏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标题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涉外商务礼仪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跨文化商务交际中的非言语因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谈判的文化障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谈判的恭维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广告语言的差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函电、商务合同的语言、文体特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标的文化内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商务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电子商务 （某一领域的发展，特点，影响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以下提示只表明可以从这些方面去选题；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000000"/>
                </a:solidFill>
                <a:uFillTx/>
                <a:latin typeface="Trebuchet MS"/>
              </a:rPr>
              <a:t>不可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直接用来作为论文的题目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体现中西文化差异的英汉词语涵义。 例如：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成语、委婉语、禁忌语、称谓语、体态语、问候语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拟声词、颜色词、动物词、食物词、季节词、方位词、服饰词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含有典故和神话的词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民族或国情惯用词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新生事物词语 （网络新词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思维方式差异的英汉语法特征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文化差异的思维方式及英汉表现方法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体现中西文化差异的英汉修辞特征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语言、文化与翻译的关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翻译的标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“直译”与“意译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“异化”与“归化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当代文化翻译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化因素对翻译的影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西某一译论的比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某项翻译理论或技巧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a English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与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glis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nglish </a:t>
            </a: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的语言因素和文化因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论某类词语或语句的翻译（成语、颜色词、长句等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言文化对比分析与翻译理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词语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法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修辞对比与翻译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译作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译作比较与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英汉跨文化的言语交际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rbal communication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能力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英汉文化的非言语交际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nverbal communication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，如身势语 （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dy language</a:t>
            </a: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）的不同涵义，包括交际双方身体的姿势、头部的动作、面部的表情、眼睛的使用、手臂的动作、对时间的态度、对空间的态度、不同的交际习惯等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rebuchet MS"/>
              </a:rPr>
              <a:t>影响跨文化交际的因素，包括语言方面和非语言方面，如语言和非语言表达方式、哲学观、伦理观、价值观、地理环境、历史背景、心理特征、思维方式、时空观念、宗教信仰、风俗习惯、国情特色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汉语语言文化对中国英语教学的影响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汉英语言对比与中国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西文化比较与中国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中国英语教学的文化导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英汉语言教学与中西文化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语境与英语教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国民系列英语教育与英语教育培训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标题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主题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视角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修辞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人物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小说的情节建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作者、社会背景与作品的关系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社会意义分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文学作品的翻译评析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rebuchet MS"/>
              </a:rPr>
              <a:t>（对文学批评的批评）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2:51:18Z</dcterms:created>
  <dc:creator>w</dc:creator>
  <dc:description/>
  <dc:language>en-US</dc:language>
  <cp:lastModifiedBy>w</cp:lastModifiedBy>
  <dcterms:modified xsi:type="dcterms:W3CDTF">2017-11-24T02:35:18Z</dcterms:modified>
  <cp:revision>15</cp:revision>
  <dc:subject/>
  <dc:title>论文选题提示</dc:title>
</cp:coreProperties>
</file>