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18B1-9F3D-4DAF-9CBB-B8826B84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35EF-0D33-44AC-B046-8AFE0088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D03F-8EF6-44A0-8ECA-F19A9268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3D9B-4FCC-4F50-A3A0-B13587EA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1F60-8EBE-4547-B57B-28175B79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4CBA-215F-4CD0-AE08-F7376B1F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9DB6-8DB7-4417-9F8C-7B440BC2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49FF-8B91-4016-84D6-B0F0BBF8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6521-F662-492D-9BBB-E100DBA7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0D9B-F014-455F-AE4A-73F81A5D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C895-6DCD-4E28-8D33-4BE01DCA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8B87-D9FA-4F6B-93F0-4BF95A01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5072-0178-4550-B1F5-8C0662D4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1C21-C265-470C-8503-BF73737D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40B4-3869-49C8-BC9F-B4F90C86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28F3-BE61-40B3-8C68-6604E448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BD27-46D0-499C-80E6-542B6DB3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922E4-1CFB-4270-9A84-AD63BC07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66DBA-1618-4A4C-B05E-7E6D9EF6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8987E-EF16-465A-B171-4B585648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98A21-ED55-4F44-8A22-30D6B081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A4BB4-BA94-41A6-80DC-E09B226E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86A3-E93A-48C8-87C5-7BA6C84B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AE5D8-3F1A-49A4-86C6-F8FB8268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23D13-2CCA-4724-B854-E0A1BCC2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BCAF0-04FD-43DA-A366-3D893158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C3C10-1957-4154-BC51-C0AB4B35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95384-3734-4FF8-ACEC-B293DAAF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87CDC-CB67-45F4-B9C9-7A86C9AE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3905C-9F30-48D0-BEE0-BADD9AF4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8E529-E262-455D-95F2-E6415CC3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7940E-565D-412D-8978-AA44E1C1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A0D64-18EC-41FA-9A4B-45D2CBB2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2A85-7A74-4B07-A496-470100C0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70BED-A451-4BC3-B40E-8B6404AD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7D133-4DEE-41B3-8B72-4B3D8155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B0FE3-AE06-44FC-B958-7BC30E31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34B45-6DDB-4782-B4E9-D5B57E85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0FFBD-B5B4-4BE8-B04D-0A19D7C1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12508-0ED3-4A85-A47B-C6262301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96F85-DDF4-4E59-86A5-C6B023CC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81AE7-C160-4958-B066-B2E8F9D2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4E44B-88F0-47B0-8B62-1A3DE795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0188B-A4A1-4C1B-A090-EEED464E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70C4-E807-46B1-8BE6-7ADE50E3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9EB0D-7F69-4011-AF39-85A375E5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B9F7E-7550-4A8D-B9BB-C1B615F7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C0B23-9385-402B-B440-18DD32BA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135DA-B610-4656-903D-DEFA8E40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34FF9-EA71-4C8F-B95B-A83E7755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886F4-47BB-4957-9CAF-9D2DEE4D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ACC12-0891-47E5-ABFA-D2DF3E1C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89A57-98E1-4F74-9FBC-EB14B0C0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7168B-375E-4065-A5EE-00E2C4D7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2EDE7-9D5F-4BDC-BA90-305EE48B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2D70-6C8D-4C8D-87A6-CC6384C7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FAFF3-E171-4B0C-BB49-C1E10A31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8D16-C349-4863-8A70-DD24D2B9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7833-D115-411C-BB01-52E05733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2120-4FFE-4B5B-BAC7-0C621AF9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矩形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矩形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b13f9a"/>
                </a:solidFill>
                <a:latin typeface="Trebuchet MS"/>
                <a:ea typeface="华文新魏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b13f9a"/>
                </a:solidFill>
                <a:latin typeface="Trebuchet MS"/>
                <a:ea typeface="华文新魏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b13f9a"/>
                </a:solidFill>
                <a:latin typeface="Trebuchet MS"/>
                <a:ea typeface="华文新魏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5399-8049-4273-BF33-12EA5583DB01}" type="slidenum">
              <a:rPr b="0" lang="zh-CN" sz="1100" spc="-1" strike="noStrike">
                <a:solidFill>
                  <a:srgbClr val="b13f9a"/>
                </a:solidFill>
                <a:latin typeface="Trebuchet MS"/>
                <a:ea typeface="华文新魏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矩形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矩形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直接连接符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rebuchet MS"/>
                <a:ea typeface="华文新魏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rebuchet MS"/>
                <a:ea typeface="华文新魏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Trebuchet MS"/>
                <a:ea typeface="华文新魏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3C45-C282-470B-89BC-E438E48C5109}" type="slidenum">
              <a:rPr b="0" lang="zh-CN" sz="1100" spc="-1" strike="noStrike">
                <a:solidFill>
                  <a:srgbClr val="ffffff"/>
                </a:solidFill>
                <a:latin typeface="Trebuchet MS"/>
                <a:ea typeface="华文新魏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矩形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矩形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b13f9a"/>
                </a:solidFill>
                <a:latin typeface="Trebuchet MS"/>
                <a:ea typeface="华文新魏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b13f9a"/>
                </a:solidFill>
                <a:latin typeface="Trebuchet MS"/>
                <a:ea typeface="华文新魏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b13f9a"/>
                </a:solidFill>
                <a:latin typeface="Trebuchet MS"/>
                <a:ea typeface="华文新魏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369C-2A9E-45C4-847C-629C4B8820E6}" type="slidenum">
              <a:rPr b="0" lang="zh-CN" sz="1100" spc="-1" strike="noStrike">
                <a:solidFill>
                  <a:srgbClr val="b13f9a"/>
                </a:solidFill>
                <a:latin typeface="Trebuchet MS"/>
                <a:ea typeface="华文新魏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4e7ed"/>
                </a:solidFill>
                <a:latin typeface="Trebuchet MS"/>
                <a:ea typeface="华文新魏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4e7ed"/>
                </a:solidFill>
                <a:latin typeface="Trebuchet MS"/>
                <a:ea typeface="华文新魏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4e7ed"/>
                </a:solidFill>
                <a:latin typeface="Trebuchet MS"/>
                <a:ea typeface="华文新魏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F9A6-93D6-4840-B14C-3D6305D0C175}" type="slidenum">
              <a:rPr b="0" lang="zh-CN" sz="1100" spc="-1" strike="noStrike">
                <a:solidFill>
                  <a:srgbClr val="f4e7ed"/>
                </a:solidFill>
                <a:latin typeface="Trebuchet MS"/>
                <a:ea typeface="华文新魏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矩形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矩形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b13f9a"/>
                </a:solidFill>
                <a:latin typeface="Trebuchet MS"/>
                <a:ea typeface="华文新魏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b13f9a"/>
                </a:solidFill>
                <a:latin typeface="Trebuchet MS"/>
                <a:ea typeface="华文新魏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b13f9a"/>
                </a:solidFill>
                <a:latin typeface="Trebuchet MS"/>
                <a:ea typeface="华文新魏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7CD0-17F4-4049-8C92-A03C97B9A523}" type="slidenum">
              <a:rPr b="0" lang="zh-CN" sz="1100" spc="-1" strike="noStrike">
                <a:solidFill>
                  <a:srgbClr val="b13f9a"/>
                </a:solidFill>
                <a:latin typeface="Trebuchet MS"/>
                <a:ea typeface="华文新魏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标题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标题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涉外商务礼仪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跨文化商务交际中的非言语因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商务谈判的文化障碍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商务谈判的恭维语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英汉广告语言的差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商务函电、商务合同的语言、文体特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商标的文化内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商务翻译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电子商务 （某一领域的发展，特点，影响等）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以下提示只表明可以从这些方面去选题；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000000"/>
                </a:solidFill>
                <a:uFillTx/>
                <a:latin typeface="Trebuchet MS"/>
              </a:rPr>
              <a:t>不可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直接用来作为论文的题目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标题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体现中西文化差异的英汉词语涵义。 例如：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成语、委婉语、禁忌语、称谓语、体态语、问候语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拟声词、颜色词、动物词、食物词、季节词、方位词、服饰词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含有典故和神话的词语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民族或国情惯用词语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新生事物词语 （网络新词等）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标题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（体现中西思维方式差异的英汉语法特征）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（体现中西文化差异的思维方式及英汉表现方法）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（体现中西文化差异的英汉修辞特征）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标题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语言、文化与翻译的关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论翻译的标准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论“直译”与“意译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论“异化”与“归化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当代文化翻译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文化因素对翻译的影响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中西某一译论的比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论某项翻译理论或技巧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hina English 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与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hinglis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hinglish 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的语言因素和文化因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标题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论某类词语或语句的翻译（成语、颜色词、长句等）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英汉语言文化对比分析与翻译理论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英汉词语对比与翻译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英汉语法对比与翻译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英汉修辞对比与翻译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译作评析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译作比较与评析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标题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英汉跨文化的言语交际（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erbal communication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）能力。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英汉文化的非言语交际（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nverbal communication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），如身势语 （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dy language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）的不同涵义，包括交际双方身体的姿势、头部的动作、面部的表情、眼睛的使用、手臂的动作、对时间的态度、对空间的态度、不同的交际习惯等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影响跨文化交际的因素，包括语言方面和非语言方面，如语言和非语言表达方式、哲学观、伦理观、价值观、地理环境、历史背景、心理特征、思维方式、时空观念、宗教信仰、风俗习惯、国情特色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标题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汉语语言文化对中国英语教学的影响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汉英语言对比与中国英语教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中西文化比较与中国英语教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中国英语教学的文化导入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英汉语言教学与中西文化教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语境与英语教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国民系列英语教育与英语教育培训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标题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文学作品的主题分析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文学作品的视角分析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文学作品的修辞分析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文学作品的人物分析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小说的情节建构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作者、社会背景与作品的关系分析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文学作品的社会意义分析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文学作品的翻译评析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（对文学批评的批评）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5T02:51:18Z</dcterms:created>
  <dc:creator>w</dc:creator>
  <dc:description/>
  <dc:language>en-US</dc:language>
  <cp:lastModifiedBy>w</cp:lastModifiedBy>
  <dcterms:modified xsi:type="dcterms:W3CDTF">2017-11-24T02:35:18Z</dcterms:modified>
  <cp:revision>15</cp:revision>
  <dc:subject/>
  <dc:title>论文选题提示</dc:title>
</cp:coreProperties>
</file>